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1750F4-9248-4A4F-8221-60A0E67BF2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A40976-8BCB-4FC1-B627-18971756606B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DC1BA7-A909-4D68-AD73-551180556F27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EB41C1-C584-47FB-A275-07C71D8CF885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0FCC1B-2EE7-4CED-9CAB-ACFB60E884FD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2"/>
          <a:stretch/>
        </p:blipFill>
        <p:spPr>
          <a:xfrm>
            <a:off x="173160" y="6165720"/>
            <a:ext cx="137448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4920" y="563400"/>
            <a:ext cx="7854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64920" y="2093400"/>
            <a:ext cx="78548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6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8680" cy="6860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3"/>
          <a:stretch/>
        </p:blipFill>
        <p:spPr>
          <a:xfrm>
            <a:off x="244440" y="264960"/>
            <a:ext cx="2162160" cy="881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69923a"/>
          </a:solidFill>
          <a:ln w="9360">
            <a:solidFill>
              <a:srgbClr val="4d4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244440" y="264960"/>
            <a:ext cx="2162160" cy="881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4920" y="563400"/>
            <a:ext cx="7854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2093400"/>
            <a:ext cx="78548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5811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923a"/>
                </a:solidFill>
                <a:latin typeface="Arial"/>
              </a:rPr>
              <a:t>Grammar and Meaning: Clause Complex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65280" y="5029200"/>
            <a:ext cx="30686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923a"/>
                </a:solidFill>
                <a:latin typeface="Arial"/>
              </a:rPr>
              <a:t>Robert 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verview of Clause Comp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-ordinated claus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al stat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aratactic relation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-ordinated claus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c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ypotactic relation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.B. *Embedded (rank shifted) clauses not considered a claus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ordinated Clauses (Paratacti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53640" y="1447920"/>
            <a:ext cx="7566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uses of equal status are often joined by conj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ANBOY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FOR, AND, NOR, BUT, OR, YET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(additive: addition, time sequence, logical sequenc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lov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want to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(disjunctive: alter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e you going 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e you staying h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(adversative: contras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lik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do not lov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(consequential, cause and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ve started, so I’ll fin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ordinated Clau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53640" y="1600200"/>
            <a:ext cx="7566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lause can be dependent on ano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nant clause (alpha)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t clause (beta) 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he eats cak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he feels si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ordinated Clauses (Hypotacti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3640" y="1447920"/>
            <a:ext cx="7566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t Clauses are often joined by conj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after, although, if, unless, so that, ther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cannot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am already marri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am already marri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cannot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ers seemed long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a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a child, summers seemed lon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pendent Clause versus Rank-shif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A non-defining relative clause is considered depend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as brok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cost him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he ca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him nothing,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hi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broke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aid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noth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car,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whi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s a good 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Whereas, a defining relative clause is considered rank shifted and not part of a clause compl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e car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that was brok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him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ject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he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modifi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  Predic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rok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 cost him nothing. The other one cost him a lo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or, T. and Bloor, M. (2004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Functional Analysis of English: A Hallidayan Approa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d) London: Edward Arn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LIDAY, M.A.K. (1985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 Introduction to Functional Gramm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ondon: Edward Arn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20:48:00Z</dcterms:created>
  <dc:creator>David Wilson</dc:creator>
  <dc:description/>
  <dc:language>en-US</dc:language>
  <cp:lastModifiedBy>fox rob</cp:lastModifiedBy>
  <dcterms:modified xsi:type="dcterms:W3CDTF">2009-02-26T02:00:33Z</dcterms:modified>
  <cp:revision>29</cp:revision>
  <dc:subject/>
  <dc:title>PowerPoint Presentation</dc:title>
</cp:coreProperties>
</file>